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C72-22DA-43C5-B4CE-660E4982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72B-1B19-458E-BBAF-07C27154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C02-0F4B-4989-B32B-837005E2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1B0-A97F-4A3F-A868-CBB7CAF7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52F-CFB0-4B25-A83A-FCABA6CA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590-25A1-477A-A3B4-17CC19B7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53B-4DC1-43AE-B633-45AF9D72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F57-4452-4988-8051-68B90F07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837-FCE7-42F7-AF55-5C02E13C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5DA-CFEE-4E66-A1FF-E6DA377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B57-A048-46D0-B46A-BA43DC47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B44-B17D-4100-BE48-F99318B7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370-8B52-4427-A476-ACD4EE08E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genomics data collection, integration, visualizatio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s functional genomics (microarray, interaction, localization, etc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 to the original data collected and the integrated data via user friendly web tools and convenient bulk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ta integration and network discovery 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45000" cy="383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5638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ga Troyanskaya’s lab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d Meyers, Adam Wible, Drew Rob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br>
              <a:rPr sz="44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ttp://function.princeton.edu/magic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7083720" cy="558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482400">
            <a:off x="2209320" y="39510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999600">
            <a:off x="1828800" y="312372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49400">
            <a:off x="1915920" y="4682880"/>
            <a:ext cx="3200400" cy="228600"/>
          </a:xfrm>
          <a:prstGeom prst="rightArrow">
            <a:avLst>
              <a:gd name="adj1" fmla="val 50000"/>
              <a:gd name="adj2" fmla="val 3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00200" y="3200400"/>
            <a:ext cx="129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the system around the GMOD database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code to load functional genomics data and associated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curator tool (perl CGI, makes use of  MAGE-stk and chado modules) that loads experimental design information (but not actual data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new schema module to store new type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nd implement software for our specific web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php version working off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ctual genomics data, via command line and curator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up draft schema module, better integrate it with rest of database, send it around to gmod-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code for 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762120"/>
            <a:ext cx="247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GD @ Prince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zur Ra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e Ought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Wig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Schro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a Dolin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ot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762120"/>
            <a:ext cx="242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yanskaya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m W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w R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d Me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ga Troyansk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6:03:17Z</dcterms:created>
  <dc:creator>osX</dc:creator>
  <dc:description/>
  <dc:language>en-US</dc:language>
  <cp:lastModifiedBy>Becket Feierbach</cp:lastModifiedBy>
  <cp:lastPrinted>2005-03-22T22:08:58Z</cp:lastPrinted>
  <dcterms:modified xsi:type="dcterms:W3CDTF">2005-05-15T16:16:38Z</dcterms:modified>
  <cp:revision>65</cp:revision>
  <dc:subject/>
  <dc:title>Utilizing bioinformatics methods and open source packages to create useful functional genomics tools for the research community. </dc:title>
</cp:coreProperties>
</file>